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jpeg" ContentType="image/jpeg"/>
  <Override PartName="/ppt/media/image10.png" ContentType="image/png"/>
  <Override PartName="/ppt/media/image8.gif" ContentType="image/gif"/>
  <Override PartName="/ppt/media/image18.jpeg" ContentType="image/jpeg"/>
  <Override PartName="/ppt/media/image7.gif" ContentType="image/gif"/>
  <Override PartName="/ppt/media/image5.jpeg" ContentType="image/jpeg"/>
  <Override PartName="/ppt/media/image6.gif" ContentType="image/gif"/>
  <Override PartName="/ppt/media/image13.jpeg" ContentType="image/jpeg"/>
  <Override PartName="/ppt/media/image23.png" ContentType="image/png"/>
  <Override PartName="/ppt/media/image4.png" ContentType="image/png"/>
  <Override PartName="/ppt/media/image21.png" ContentType="image/png"/>
  <Override PartName="/ppt/media/image20.png" ContentType="image/png"/>
  <Override PartName="/ppt/media/image19.jpeg" ContentType="image/jpeg"/>
  <Override PartName="/ppt/media/image17.gif" ContentType="image/gif"/>
  <Override PartName="/ppt/media/image2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5.jpeg" ContentType="image/jpeg"/>
  <Override PartName="/ppt/media/image2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40FA7-E5FD-46BC-B730-2A52B1CFC4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6E2D7-F76C-4EC9-8B60-ABB90597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A88B8-EEA1-4DD1-B257-746B1929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E761C-B880-431F-9EF0-41EA0DE03F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A55E1-D04E-4A98-8385-38DDC817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0E162-3F4F-47D3-B4E0-F2950FA2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583B4-3403-46BA-A612-7D22FE50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AFF51-466C-44EF-8AD0-97EC1B2C5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5B6DA-76F6-4F45-8812-E922B9B61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8E08D-4CEA-419B-9E7B-80253C90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E7DD1-AC17-4B43-B306-6AC1D3A9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65FE1-C8C3-454C-B621-394D912C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414C-C354-4B54-A000-EF97DE8F6C9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1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3.png"/><Relationship Id="rId12" Type="http://schemas.openxmlformats.org/officeDocument/2006/relationships/image" Target="../media/image22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3.png"/><Relationship Id="rId16" Type="http://schemas.openxmlformats.org/officeDocument/2006/relationships/image" Target="../media/image22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3.png"/><Relationship Id="rId20" Type="http://schemas.openxmlformats.org/officeDocument/2006/relationships/image" Target="../media/image22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3.png"/><Relationship Id="rId24" Type="http://schemas.openxmlformats.org/officeDocument/2006/relationships/image" Target="../media/image22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3.png"/><Relationship Id="rId28" Type="http://schemas.openxmlformats.org/officeDocument/2006/relationships/image" Target="../media/image22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细胞的基本功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Verdana"/>
                <a:ea typeface="黑体"/>
              </a:rPr>
              <a:t>骨骼肌的收缩活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9280" y="1989000"/>
            <a:ext cx="8282160" cy="16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影响传递的因素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 </a:t>
            </a:r>
            <a:br>
              <a:rPr sz="3600"/>
            </a:br>
            <a:br>
              <a:rPr sz="2800"/>
            </a:b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肌无力综合征：自身抗体破坏神经末梢</a:t>
            </a:r>
            <a:r>
              <a:rPr b="1" lang="en-US" sz="28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28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通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肉毒杆菌中毒：毒素抑制接头前膜 </a:t>
            </a:r>
            <a:r>
              <a:rPr b="1" lang="en-US" sz="28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95280" y="1773360"/>
            <a:ext cx="842472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钙 离 子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促使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筒 箭 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α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银环蛇毒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有机磷农药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对胆碱酯酶有抑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重症肌无力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自身抗体破坏了终板膜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      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受体通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2637000"/>
            <a:ext cx="46400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可特异性阻断终板膜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受体通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2637000"/>
            <a:ext cx="75960" cy="990360"/>
          </a:xfrm>
          <a:custGeom>
            <a:avLst/>
            <a:gdLst>
              <a:gd name="textAreaLeft" fmla="*/ 0 w 75960"/>
              <a:gd name="textAreaRight" fmla="*/ 27360 w 7596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339966"/>
          </a:solidFill>
          <a:ln w="57240">
            <a:solidFill>
              <a:srgbClr val="ff6600"/>
            </a:solidFill>
            <a:miter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4000" y="1268280"/>
            <a:ext cx="8497800" cy="40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a50021"/>
                </a:solidFill>
                <a:latin typeface="黑体"/>
                <a:ea typeface="黑体"/>
              </a:rPr>
              <a:t>二、骨骼肌细胞的兴奋</a:t>
            </a:r>
            <a:r>
              <a:rPr b="1" lang="en-US" sz="38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800" spc="-1" strike="noStrike">
                <a:solidFill>
                  <a:srgbClr val="a50021"/>
                </a:solidFill>
                <a:latin typeface="黑体"/>
                <a:ea typeface="黑体"/>
              </a:rPr>
              <a:t>收缩耦联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兴奋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收缩耦联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(Excitation-contraction coupling)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的概念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将横纹肌细胞产生动作电位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电兴奋过程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和肌丝滑行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机械收缩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联系起来的中介机制或过程。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1052640"/>
            <a:ext cx="78487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肌管系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0241"/>
          <a:stretch/>
        </p:blipFill>
        <p:spPr>
          <a:xfrm>
            <a:off x="1547640" y="1989000"/>
            <a:ext cx="6096240" cy="41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9640" y="692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兴奋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收缩耦联的基本步骤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①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T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管膜动作电位的传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动作电位沿肌膜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T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管膜传播，同时激活膜上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型钙通道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②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JSR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内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的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激活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型钙通道通过变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骨骼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或内流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心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激活钙释放通道，引起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释放入胞质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28720" y="685800"/>
            <a:ext cx="690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692280"/>
            <a:ext cx="8209080" cy="48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③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触发肌肉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胞质中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升高促使肌钙蛋白与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结合引发肌肉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④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JSR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回收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升高激活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SR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膜上的钙泵，将胞质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回收肌质网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降低，肌肉舒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1066680"/>
            <a:ext cx="8147160" cy="38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兴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收缩耦联过程中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关键耦联部位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三联管结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起关键作用的耦联物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2+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如果肌质中缺少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将发生兴奋收缩脱耦联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68360" y="620640"/>
            <a:ext cx="820728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骨骼肌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原纤维和肌小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原纤维呈明－暗相间的节段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暗带：长度固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明带：长度可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8000" y="314172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0000"/>
          </a:solidFill>
          <a:ln w="414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4581360"/>
            <a:ext cx="83520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小节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原纤维上位于两条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Z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线之间的区域，是肌肉收缩和舒张的基本单位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7345440" cy="55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一、骨骼肌的兴奋</a:t>
            </a:r>
            <a:r>
              <a:rPr b="0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05264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神经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接头处的结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12604" r="0" b="13370"/>
          <a:stretch/>
        </p:blipFill>
        <p:spPr>
          <a:xfrm>
            <a:off x="3708360" y="3460680"/>
            <a:ext cx="5159520" cy="2863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198900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前膜（神经轴突的细胞膜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间隙（内充满细胞外液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后膜（终板膜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03280" y="5013360"/>
            <a:ext cx="702144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组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暗带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肌丝主要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粗肌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组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明带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肌丝主要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肌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1484280"/>
            <a:ext cx="856944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骨骼肌的收缩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肌丝滑行理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myofilament sliding theory):</a:t>
            </a:r>
            <a:r>
              <a:rPr b="1" lang="en-US" sz="3600" spc="-1" strike="noStrike">
                <a:solidFill>
                  <a:srgbClr val="ddb523"/>
                </a:solidFill>
                <a:latin typeface="隶书"/>
                <a:ea typeface="隶书"/>
              </a:rPr>
              <a:t>1954</a:t>
            </a:r>
            <a:r>
              <a:rPr b="1" lang="zh-CN" sz="3600" spc="-1" strike="noStrike">
                <a:solidFill>
                  <a:srgbClr val="ddb523"/>
                </a:solidFill>
                <a:latin typeface="隶书"/>
                <a:ea typeface="隶书"/>
              </a:rPr>
              <a:t>年由</a:t>
            </a:r>
            <a:r>
              <a:rPr b="1" lang="en-US" sz="3600" spc="-1" strike="noStrike">
                <a:solidFill>
                  <a:srgbClr val="ddb523"/>
                </a:solidFill>
                <a:latin typeface="隶书"/>
                <a:ea typeface="隶书"/>
              </a:rPr>
              <a:t>Huxley</a:t>
            </a:r>
            <a:r>
              <a:rPr b="1" lang="zh-CN" sz="3600" spc="-1" strike="noStrike">
                <a:solidFill>
                  <a:srgbClr val="ddb523"/>
                </a:solidFill>
                <a:latin typeface="隶书"/>
                <a:ea typeface="隶书"/>
              </a:rPr>
              <a:t>提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内容：</a:t>
            </a: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肌肉的缩短和伸长均通过粗、细肌丝在肌节内的相互滑行而发生，粗、细肌丝本身的长度不变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68360" y="105264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主要过程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640" y="1844640"/>
            <a:ext cx="7920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与肌动蛋白的结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扭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与肌动蛋白的分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复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4437000"/>
            <a:ext cx="8280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横桥循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cross bridge cycling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球蛋白的横桥与肌动蛋白结合、扭动、复位的过程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19280" y="5805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收缩过程（肌丝滑行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5562360" cy="41720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796000" y="1916280"/>
            <a:ext cx="317988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395280" y="847800"/>
            <a:ext cx="8294760" cy="5665680"/>
            <a:chOff x="395280" y="847800"/>
            <a:chExt cx="8294760" cy="5665680"/>
          </a:xfrm>
        </p:grpSpPr>
        <p:sp>
          <p:nvSpPr>
            <p:cNvPr id="169" name=""/>
            <p:cNvSpPr/>
            <p:nvPr/>
          </p:nvSpPr>
          <p:spPr>
            <a:xfrm>
              <a:off x="395280" y="847800"/>
              <a:ext cx="8294760" cy="56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40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  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正常肌肉舒缩的分子基础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肌节  粗肌丝：肌球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细肌丝：肌动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原肌凝蛋白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肌钙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钙离子：耦联因子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TP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：肌丝滑动的能源 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00600" y="2981520"/>
              <a:ext cx="69840" cy="1657080"/>
            </a:xfrm>
            <a:custGeom>
              <a:avLst/>
              <a:gdLst>
                <a:gd name="textAreaLeft" fmla="*/ 20520 w 69840"/>
                <a:gd name="textAreaRight" fmla="*/ 69840 w 69840"/>
                <a:gd name="textAreaTop" fmla="*/ 68760 h 1657080"/>
                <a:gd name="textAreaBottom" fmla="*/ 1588320 h 165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10280" y="2143080"/>
              <a:ext cx="74520" cy="108108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45000 h 1081080"/>
                <a:gd name="textAreaBottom" fmla="*/ 103608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15200" y="3743280"/>
              <a:ext cx="74520" cy="100980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41760 h 1009800"/>
                <a:gd name="textAreaBottom" fmla="*/ 968040 h 100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0200" y="2067120"/>
              <a:ext cx="128520" cy="3921120"/>
            </a:xfrm>
            <a:custGeom>
              <a:avLst/>
              <a:gdLst>
                <a:gd name="textAreaLeft" fmla="*/ 82080 w 128520"/>
                <a:gd name="textAreaRight" fmla="*/ 128880 w 128520"/>
                <a:gd name="textAreaTop" fmla="*/ 102240 h 3921120"/>
                <a:gd name="textAreaBottom" fmla="*/ 3818880 h 392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1800" y="2067120"/>
              <a:ext cx="131760" cy="1079280"/>
            </a:xfrm>
            <a:custGeom>
              <a:avLst/>
              <a:gdLst>
                <a:gd name="textAreaLeft" fmla="*/ 84240 w 131760"/>
                <a:gd name="textAreaRight" fmla="*/ 132120 w 13176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75520" y="2359080"/>
              <a:ext cx="222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收缩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30840" y="3908520"/>
              <a:ext cx="2057400" cy="6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调节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9640" y="1320840"/>
            <a:ext cx="84250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收缩的表现形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表现为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收缩时产生的张力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force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缩短程度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shortening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产生张力或缩短的速度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velocity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3552840"/>
            <a:ext cx="216000" cy="201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00"/>
          </a:solidFill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9640" y="1144440"/>
            <a:ext cx="799308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的外部表现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等长收缩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isometric contraction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时，只有肌张力的增加而无肌肉长度的缩短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等张收缩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isotonic contraction 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时，只有肌肉长度缩短而无肌张力的变化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0920" y="1557360"/>
            <a:ext cx="8424720" cy="41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单收缩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single twich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骨骼肌受到一次刺激，产生一次动作电位，随后出现一次机械收缩和跟随的舒张。</a:t>
            </a:r>
            <a:r>
              <a:rPr b="1" lang="zh-CN" sz="3800" spc="-1" strike="noStrike">
                <a:solidFill>
                  <a:srgbClr val="ddb523"/>
                </a:solidFill>
                <a:latin typeface="黑体"/>
                <a:ea typeface="黑体"/>
              </a:rPr>
              <a:t>分为三个时期：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潜伏期：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收缩期：</a:t>
            </a:r>
            <a:r>
              <a:rPr b="1" lang="zh-CN" sz="3200" spc="-1" strike="noStrike">
                <a:solidFill>
                  <a:srgbClr val="d60093"/>
                </a:solidFill>
                <a:latin typeface="黑体"/>
                <a:ea typeface="黑体"/>
              </a:rPr>
              <a:t>一定范围刺激强度与收缩强度有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舒张期：略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395280" y="981000"/>
            <a:ext cx="8281800" cy="4603320"/>
            <a:chOff x="395280" y="981000"/>
            <a:chExt cx="8281800" cy="4603320"/>
          </a:xfrm>
        </p:grpSpPr>
        <p:sp>
          <p:nvSpPr>
            <p:cNvPr id="112" name=""/>
            <p:cNvSpPr/>
            <p:nvPr/>
          </p:nvSpPr>
          <p:spPr>
            <a:xfrm>
              <a:off x="395280" y="981000"/>
              <a:ext cx="8281800" cy="46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1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接头前膜释放</a:t>
              </a: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Ach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神经冲动（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P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）到达轴突末梢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该处膜中电压门控性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Ca</a:t>
              </a:r>
              <a:r>
                <a:rPr b="1" lang="en-US" sz="34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2+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通道开放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Ca</a:t>
              </a:r>
              <a:r>
                <a:rPr b="1" lang="en-US" sz="34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2+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内流        触发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囊泡向前膜靠近、融合、破裂     以出胞方式使囊泡中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释放入接头间隙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(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量子式释放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)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57480" y="5224680"/>
              <a:ext cx="719280" cy="144360"/>
            </a:xfrm>
            <a:custGeom>
              <a:avLst/>
              <a:gdLst>
                <a:gd name="textAreaLeft" fmla="*/ 89640 w 719280"/>
                <a:gd name="textAreaRight" fmla="*/ 629640 w 719280"/>
                <a:gd name="textAreaTop" fmla="*/ 36000 h 144360"/>
                <a:gd name="textAreaBottom" fmla="*/ 108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62800" y="3665520"/>
              <a:ext cx="718920" cy="144720"/>
            </a:xfrm>
            <a:custGeom>
              <a:avLst/>
              <a:gdLst>
                <a:gd name="textAreaLeft" fmla="*/ 89640 w 718920"/>
                <a:gd name="textAreaRight" fmla="*/ 629280 w 718920"/>
                <a:gd name="textAreaTop" fmla="*/ 36000 h 144720"/>
                <a:gd name="textAreaBottom" fmla="*/ 10872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85880" y="4427640"/>
              <a:ext cx="914400" cy="152280"/>
            </a:xfrm>
            <a:custGeom>
              <a:avLst/>
              <a:gdLst>
                <a:gd name="textAreaLeft" fmla="*/ 114120 w 914400"/>
                <a:gd name="textAreaRight" fmla="*/ 800280 w 91440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02320" y="2911680"/>
              <a:ext cx="719280" cy="144360"/>
            </a:xfrm>
            <a:custGeom>
              <a:avLst/>
              <a:gdLst>
                <a:gd name="textAreaLeft" fmla="*/ 89640 w 719280"/>
                <a:gd name="textAreaRight" fmla="*/ 629640 w 719280"/>
                <a:gd name="textAreaTop" fmla="*/ 36000 h 144360"/>
                <a:gd name="textAreaBottom" fmla="*/ 108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95280" y="90792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神经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接头处的兴奋传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rcRect l="0" t="26772" r="0" b="13402"/>
          <a:stretch/>
        </p:blipFill>
        <p:spPr>
          <a:xfrm>
            <a:off x="324000" y="2060640"/>
            <a:ext cx="8497800" cy="38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539640" y="1341360"/>
            <a:ext cx="7777080" cy="4208760"/>
            <a:chOff x="539640" y="1341360"/>
            <a:chExt cx="7777080" cy="4208760"/>
          </a:xfrm>
        </p:grpSpPr>
        <p:sp>
          <p:nvSpPr>
            <p:cNvPr id="183" name=""/>
            <p:cNvSpPr/>
            <p:nvPr/>
          </p:nvSpPr>
          <p:spPr>
            <a:xfrm>
              <a:off x="539640" y="1341360"/>
              <a:ext cx="777708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复合收缩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compound contraction)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当骨骼肌受到频率较高的连续刺激时，出现收缩过程的总和。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不完全强直收缩                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完全强直收缩（心肌除外）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08000" y="4222800"/>
              <a:ext cx="217440" cy="107928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76320">
              <a:solidFill>
                <a:srgbClr val="66ffff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4643280" y="3357720"/>
            <a:ext cx="4238640" cy="1552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88000" y="537372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收缩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7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0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1"/>
          <a:stretch/>
        </p:blipFill>
        <p:spPr>
          <a:xfrm>
            <a:off x="4643280" y="3357720"/>
            <a:ext cx="4238640" cy="15523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2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3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4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06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15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6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17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18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13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19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20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21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22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20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21" name="" descr=""/>
            <p:cNvPicPr/>
            <p:nvPr/>
          </p:nvPicPr>
          <p:blipFill>
            <a:blip r:embed="rId23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24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25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6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5003640" y="4653000"/>
            <a:ext cx="2881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cc"/>
                </a:solidFill>
                <a:latin typeface="Arial"/>
                <a:ea typeface="华文新魏"/>
              </a:rPr>
              <a:t>完全强直收缩曲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grpSp>
          <p:nvGrpSpPr>
            <p:cNvPr id="228" name=""/>
            <p:cNvGrpSpPr/>
            <p:nvPr/>
          </p:nvGrpSpPr>
          <p:grpSpPr>
            <a:xfrm>
              <a:off x="108000" y="907920"/>
              <a:ext cx="8807400" cy="5412960"/>
              <a:chOff x="108000" y="907920"/>
              <a:chExt cx="8807400" cy="5412960"/>
            </a:xfrm>
          </p:grpSpPr>
          <p:sp>
            <p:nvSpPr>
              <p:cNvPr id="229" name=""/>
              <p:cNvSpPr/>
              <p:nvPr/>
            </p:nvSpPr>
            <p:spPr>
              <a:xfrm>
                <a:off x="4788000" y="5373720"/>
                <a:ext cx="360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9900"/>
                    </a:solidFill>
                    <a:latin typeface="Arial"/>
                    <a:ea typeface="黑体"/>
                  </a:rPr>
                  <a:t>总和过程发生在前次收缩过程的收缩期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230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4643640" y="3357360"/>
                <a:ext cx="4238640" cy="155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4572000" y="907920"/>
                <a:ext cx="4343400" cy="230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179280" y="981000"/>
                <a:ext cx="4105440" cy="2108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08000" y="3500280"/>
                <a:ext cx="4392720" cy="159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>
                <a:off x="395280" y="5300640"/>
                <a:ext cx="360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9900"/>
                    </a:solidFill>
                    <a:latin typeface="Arial"/>
                    <a:ea typeface="黑体"/>
                  </a:rPr>
                  <a:t>总和过程发生在前次收缩过程的舒张期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5004000" y="4653000"/>
              <a:ext cx="2881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Arial"/>
                  <a:ea typeface="华文新魏"/>
                </a:rPr>
                <a:t>完全强直收缩曲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042920" y="4581360"/>
            <a:ext cx="7777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强直收缩张力远大于单收缩的张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原因：胞质内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浓度持续升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-1176480" y="2759040"/>
            <a:ext cx="914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1773360"/>
            <a:ext cx="8640720" cy="46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前负荷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preload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负荷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前所承受的负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初长度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前负荷决定肌肉在收缩前的长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张力曲线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观察不同前负荷或初长度时对肌肉收缩产生张力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1052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四、影响骨骼肌收缩效能的因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714960" y="836640"/>
            <a:ext cx="7131960" cy="4829400"/>
            <a:chOff x="714960" y="836640"/>
            <a:chExt cx="7131960" cy="4829400"/>
          </a:xfrm>
        </p:grpSpPr>
        <p:grpSp>
          <p:nvGrpSpPr>
            <p:cNvPr id="242" name=""/>
            <p:cNvGrpSpPr/>
            <p:nvPr/>
          </p:nvGrpSpPr>
          <p:grpSpPr>
            <a:xfrm>
              <a:off x="714960" y="836640"/>
              <a:ext cx="7131960" cy="4829400"/>
              <a:chOff x="714960" y="836640"/>
              <a:chExt cx="7131960" cy="4829400"/>
            </a:xfrm>
          </p:grpSpPr>
          <p:sp>
            <p:nvSpPr>
              <p:cNvPr id="243" name=""/>
              <p:cNvSpPr/>
              <p:nvPr/>
            </p:nvSpPr>
            <p:spPr>
              <a:xfrm>
                <a:off x="2230560" y="836640"/>
                <a:ext cx="0" cy="3816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886200" y="5084640"/>
                <a:ext cx="331308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初长度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(μm)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14960" y="1052640"/>
                <a:ext cx="1155240" cy="208764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张力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(Kg)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307960" y="1608120"/>
                <a:ext cx="3384360" cy="0"/>
              </a:xfrm>
              <a:prstGeom prst="line">
                <a:avLst/>
              </a:prstGeom>
              <a:ln w="475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37120" y="1455840"/>
                <a:ext cx="0" cy="3240000"/>
              </a:xfrm>
              <a:prstGeom prst="line">
                <a:avLst/>
              </a:prstGeom>
              <a:ln w="475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222720" y="846000"/>
                <a:ext cx="251928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最适初长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830920" y="1555920"/>
                <a:ext cx="201600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最大张力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0" name="未知"/>
              <p:cNvSpPr/>
              <p:nvPr/>
            </p:nvSpPr>
            <p:spPr>
              <a:xfrm>
                <a:off x="3527640" y="1557360"/>
                <a:ext cx="1904760" cy="3098880"/>
              </a:xfrm>
              <a:custGeom>
                <a:avLst/>
                <a:gdLst/>
                <a:ahLst/>
                <a:rect l="l" t="t" r="r" b="b"/>
                <a:pathLst>
                  <a:path w="1200" h="1952">
                    <a:moveTo>
                      <a:pt x="0" y="1136"/>
                    </a:moveTo>
                    <a:cubicBezTo>
                      <a:pt x="88" y="820"/>
                      <a:pt x="176" y="504"/>
                      <a:pt x="240" y="320"/>
                    </a:cubicBezTo>
                    <a:cubicBezTo>
                      <a:pt x="304" y="136"/>
                      <a:pt x="320" y="32"/>
                      <a:pt x="384" y="32"/>
                    </a:cubicBezTo>
                    <a:cubicBezTo>
                      <a:pt x="448" y="32"/>
                      <a:pt x="488" y="0"/>
                      <a:pt x="624" y="320"/>
                    </a:cubicBezTo>
                    <a:cubicBezTo>
                      <a:pt x="760" y="640"/>
                      <a:pt x="980" y="1296"/>
                      <a:pt x="1200" y="1952"/>
                    </a:cubicBezTo>
                  </a:path>
                </a:pathLst>
              </a:custGeom>
              <a:noFill/>
              <a:ln w="63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2268720" y="4653000"/>
              <a:ext cx="4608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24000" y="58039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黑体"/>
              </a:rPr>
              <a:t>肌肉在最适初长度下收缩，产生张力最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95280" y="1125360"/>
            <a:ext cx="8352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肌肉处于最适前负荷或最适初长度进行收缩时，产生的张力最大，其原因：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此时肌节的长度为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2.0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2.2μm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，粗肌丝的横桥与细肌丝作用点结合数量最多，做功效率最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0" t="20488" r="0" b="16530"/>
          <a:stretch/>
        </p:blipFill>
        <p:spPr>
          <a:xfrm>
            <a:off x="1619280" y="3573360"/>
            <a:ext cx="609588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71640" y="1557360"/>
            <a:ext cx="6912000" cy="64260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前负荷对肌肉收缩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4360" y="2421000"/>
            <a:ext cx="799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在一定范围内，前负荷与肌张力呈正变关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最适前负荷（最适初长度）时，肌肉收缩产生的肌张力最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超过最适前负荷后，前负荷与肌张力呈反变关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9640" y="1700280"/>
            <a:ext cx="8064720" cy="38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后负荷（张力－速度曲线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后负荷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afterload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在收缩过程中所承受的负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后负荷下，张力增加在前，长度缩短在后，缩短后张力不再增加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0" y="0"/>
          <a:ext cx="9144000" cy="48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48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468360" y="4869000"/>
            <a:ext cx="8066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隶书"/>
                <a:ea typeface="隶书"/>
              </a:rPr>
              <a:t>肌肉缩短速度</a:t>
            </a:r>
            <a:r>
              <a:rPr b="1" lang="zh-CN" sz="3400" spc="-1" strike="noStrike">
                <a:solidFill>
                  <a:srgbClr val="009900"/>
                </a:solidFill>
                <a:latin typeface="隶书"/>
                <a:ea typeface="隶书"/>
              </a:rPr>
              <a:t>取决于横桥周期的长短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隶书"/>
                <a:ea typeface="隶书"/>
              </a:rPr>
              <a:t>肌肉收缩张力</a:t>
            </a:r>
            <a:r>
              <a:rPr b="1" lang="zh-CN" sz="3400" spc="-1" strike="noStrike">
                <a:solidFill>
                  <a:srgbClr val="009900"/>
                </a:solidFill>
                <a:latin typeface="隶书"/>
                <a:ea typeface="隶书"/>
              </a:rPr>
              <a:t>取决于每瞬间与肌动蛋白结合的横桥数目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18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619760" cy="4959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697400" y="5465880"/>
            <a:ext cx="59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膜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Ca</a:t>
            </a:r>
            <a:r>
              <a:rPr b="1" lang="en-US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＋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通道开放，膜外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Ca</a:t>
            </a:r>
            <a:r>
              <a:rPr b="1" lang="en-US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＋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向膜内流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4360" y="549360"/>
            <a:ext cx="7559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26920" y="981000"/>
            <a:ext cx="6912000" cy="64260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后负荷对肌肉收缩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1916280"/>
            <a:ext cx="8820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后负荷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时，肌肉收缩产生的张力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缩短速度达最大缩短速度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等张收缩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后负荷越大，收缩张力越大，缩短出现延迟，缩短速度减小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当后负荷增大到使肌肉不能缩短时，缩短速度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肌肉产生的的张力达最大收缩张力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68360" y="1484280"/>
            <a:ext cx="835164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收缩能力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contractility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概念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与前、后负荷无关的影响肌肉收缩效能的肌肉内在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能力提高时，表现为长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张力曲线上移、张力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速度曲线右上方移位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11280" y="1773360"/>
            <a:ext cx="8064360" cy="41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本单元重点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骨骼肌细胞的收缩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骨骼肌细胞的兴奋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收缩耦联的基本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影响骨骼肌收缩效能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思考题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何谓兴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收缩耦联？试述其基本过程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19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619760" cy="5181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11280" y="5661000"/>
            <a:ext cx="810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接头前膜内囊泡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ACh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释放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量子释放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68360" y="722160"/>
            <a:ext cx="8496000" cy="6045840"/>
            <a:chOff x="468360" y="722160"/>
            <a:chExt cx="8496000" cy="6045840"/>
          </a:xfrm>
        </p:grpSpPr>
        <p:sp>
          <p:nvSpPr>
            <p:cNvPr id="123" name=""/>
            <p:cNvSpPr/>
            <p:nvPr/>
          </p:nvSpPr>
          <p:spPr>
            <a:xfrm>
              <a:off x="468360" y="722160"/>
              <a:ext cx="8496000" cy="60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2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终板膜产生终板电位</a:t>
              </a: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endplate potential,EPP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与终板膜上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N</a:t>
              </a:r>
              <a:r>
                <a:rPr b="1" lang="en-US" sz="3200" spc="-1" strike="noStrike" baseline="-25000">
                  <a:solidFill>
                    <a:srgbClr val="009900"/>
                  </a:solidFill>
                  <a:latin typeface="黑体"/>
                  <a:ea typeface="黑体"/>
                </a:rPr>
                <a:t>2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-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型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受体结合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与受体在同一分子上的离子通道打开     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Na</a:t>
              </a:r>
              <a:r>
                <a:rPr b="1" lang="en-US" sz="32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+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的内流（和少量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K</a:t>
              </a:r>
              <a:r>
                <a:rPr b="1" lang="en-US" sz="32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+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外流）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膜处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RP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减小（去极化）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电位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(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局部电位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)</a:t>
              </a: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84080" y="317016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84080" y="576252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84080" y="4826160"/>
              <a:ext cx="147960" cy="288720"/>
            </a:xfrm>
            <a:prstGeom prst="downArrow">
              <a:avLst>
                <a:gd name="adj1" fmla="val 50000"/>
                <a:gd name="adj2" fmla="val 48783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84080" y="403380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20" descr=""/>
          <p:cNvPicPr/>
          <p:nvPr/>
        </p:nvPicPr>
        <p:blipFill>
          <a:blip r:embed="rId1"/>
          <a:stretch/>
        </p:blipFill>
        <p:spPr>
          <a:xfrm>
            <a:off x="385920" y="476280"/>
            <a:ext cx="8154720" cy="5013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50920" y="5734080"/>
            <a:ext cx="871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ACh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与终板膜上的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N</a:t>
            </a:r>
            <a:r>
              <a:rPr b="1" lang="en-US" sz="3600" spc="-1" strike="noStrike" baseline="-25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受体结合，通道开放  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457200" y="1295280"/>
            <a:ext cx="8064360" cy="3875760"/>
            <a:chOff x="457200" y="1295280"/>
            <a:chExt cx="8064360" cy="3875760"/>
          </a:xfrm>
        </p:grpSpPr>
        <p:sp>
          <p:nvSpPr>
            <p:cNvPr id="131" name=""/>
            <p:cNvSpPr/>
            <p:nvPr/>
          </p:nvSpPr>
          <p:spPr>
            <a:xfrm>
              <a:off x="1128600" y="1952640"/>
              <a:ext cx="6782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1295280"/>
              <a:ext cx="8064360" cy="38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70000"/>
                </a:lnSpc>
                <a:spcBef>
                  <a:spcPts val="2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3)</a:t>
              </a:r>
              <a:r>
                <a:rPr b="1" lang="zh-CN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肌细胞</a:t>
              </a:r>
              <a:r>
                <a:rPr b="1" lang="en-US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AP</a:t>
              </a:r>
              <a:r>
                <a:rPr b="1" lang="zh-CN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的产生</a:t>
              </a:r>
              <a:endParaRPr b="0" lang="en-US" sz="3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电位     电紧张扩布      邻近肌细胞膜去极化达阈电位      该处膜中电压门控式通道开放     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P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514600" y="2895480"/>
            <a:ext cx="4444920" cy="1866960"/>
            <a:chOff x="2514600" y="2895480"/>
            <a:chExt cx="4444920" cy="1866960"/>
          </a:xfrm>
        </p:grpSpPr>
        <p:sp>
          <p:nvSpPr>
            <p:cNvPr id="134" name=""/>
            <p:cNvSpPr/>
            <p:nvPr/>
          </p:nvSpPr>
          <p:spPr>
            <a:xfrm>
              <a:off x="6197760" y="2895480"/>
              <a:ext cx="76176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14600" y="29336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57800" y="47624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67280" y="38480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42920" y="558972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兴奋传递过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电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电过程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464000" y="214200"/>
            <a:ext cx="4680000" cy="5113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08000" y="260280"/>
            <a:ext cx="4897440" cy="511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veiveiyang</cp:lastModifiedBy>
  <cp:lastPrinted>1899-12-30T00:00:00Z</cp:lastPrinted>
  <dcterms:modified xsi:type="dcterms:W3CDTF">2015-07-25T07:37:09Z</dcterms:modified>
  <cp:revision>1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